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  <p:custShowLst>
    <p:custShow name="Presentazione personalizzata 1" id="0">
      <p:sldLst>
        <p:sld r:id="rId4"/>
        <p:sld r:id="rId6"/>
        <p:sld r:id="rId9"/>
        <p:sld r:id="rId5"/>
        <p:sld r:id="rId7"/>
        <p:sld r:id="rId19"/>
        <p:sld r:id="rId13"/>
        <p:sld r:id="rId14"/>
        <p:sld r:id="rId20"/>
        <p:sld r:id="rId15"/>
        <p:sld r:id="rId16"/>
        <p:sld r:id="rId21"/>
        <p:sld r:id="rId18"/>
        <p:sld r:id="rId22"/>
        <p:sld r:id="rId25"/>
        <p:sld r:id="rId23"/>
        <p:sld r:id="rId17"/>
        <p:sld r:id="rId26"/>
        <p:sld r:id="rId24"/>
        <p:sld r:id="rId33"/>
        <p:sld r:id="rId35"/>
        <p:sld r:id="rId36"/>
        <p:sld r:id="rId27"/>
        <p:sld r:id="rId28"/>
        <p:sld r:id="rId29"/>
        <p:sld r:id="rId34"/>
        <p:sld r:id="rId32"/>
        <p:sld r:id="rId30"/>
        <p:sld r:id="rId31"/>
        <p:sld r:id="rId37"/>
        <p:sld r:id="rId39"/>
        <p:sld r:id="rId8"/>
        <p:sld r:id="rId1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4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41AB-AE27-4DBC-8DEA-96764C46000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D036-AAA9-4A3C-8AA4-27EBB54BD6A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41A7-5213-48AA-B91A-B2FDA643BBB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78FB-05CF-41EE-B21F-2D72158EC5A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F11B-1023-4C8D-A765-B4C4B98E7C7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851B-CD52-4D61-80F2-7A7B7378C4C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D79A-E817-4B97-A2C3-FCAA3E06689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BF3B-8684-47EE-A30E-AD0FB7ED008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C1AF-8D0B-410F-91F0-8DCC87CAC3E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2831-0CDC-4D0B-BE70-6C275FAB83F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E93C-04B2-43D7-B1D6-791834B2C73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E2C0-A5C5-4ACE-9681-A68D1705B2E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83D5-193B-45B3-AAEC-02D1D256BB9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C0FD-45E1-4134-BCE8-732661DE0F5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682F-91E4-4D30-892C-8DC94F2EFA5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0725-05E8-4C65-BDD2-A5AA3420E2D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D32E-22D1-4F95-ABA0-3AC9BBBFB7A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979F-93C0-4FE8-BA2B-7BF4F74B776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5CA8-AE38-4BE0-AEE1-9E001892956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2E9D-38D5-4166-BE65-39E14AD4CF3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9BF3-8D3F-409C-AAC5-5DA11977AC3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F568-2206-441E-95A9-20BB6C19452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774E-8C89-419A-9007-D56CBBD0E84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E5B1-70AF-40E6-BDB8-DC5658AB532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DCD1-F822-426A-96BF-CA6E44C8D8D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D1BF-A500-40C7-B86E-D0F0E65B7BB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E70F-AC3A-423D-972C-7FB9D51472B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B743-5A44-4A7C-9932-86AB58B3E96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A6FF-C2D3-4BAD-8080-0AE0DD33464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67B3-3714-42C1-99F1-ED819C25C9B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3EFF-5B11-4739-84E4-40DE27A8121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5E86-F3D1-4A17-B9B8-73B9030BD49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D548-28EF-4D1B-ACE6-FA42B87F447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4972-49AE-413D-AB81-E59BF480C13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DD67-3A0A-415A-9ADE-23F0C06F98B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846A-4F97-4EAA-91AD-B4EC87884F8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0A88-86D8-4156-99FB-3321BF19496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8B9A-E618-46CC-AFE4-F77AC9E0B25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5EC1-3FA9-4C8B-9DFC-0935883F86A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0C33-822F-4C53-BF00-C39BFC3FE74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DB77-67E0-4C04-9CCF-86B8796A8C2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ABFA-6629-4A93-AABF-FE7873FD6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22F5-BC56-4FCA-AB3D-33354C40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53AA-3E7E-40BC-9AD1-B5610353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2CFE-EC22-42FD-A549-E2E99FA5E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40C0-D8E4-4FB8-ADD8-A2804BBE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DBB3-357D-413D-9A9B-C04A7511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4ECD-69BC-4C87-B01F-BE289FF7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CBAE-A2BB-42A3-BA0E-780F75F7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6099-8855-4E2F-828B-80833FD3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E561-7DAE-4A6B-8DFE-5353684B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BBDF-0586-451E-925E-91B4E2A6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A683-27D6-4DFF-891B-E3ED50FC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00A3-5A6A-4773-96C6-26F1380E948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rso di Disegno</a:t>
            </a: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rso di Disegno Meccan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71680" y="1642680"/>
            <a:ext cx="79927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rso di Studi in: Ingegneria Chimica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gegneria Mecca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nno Accademico 2012-20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ocente: Arcangelo Pellegr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900000" y="11592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Informazioni sullo svolgimento delle prove fin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08000" y="1303200"/>
            <a:ext cx="9036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prova scritta consiste in tre compiti distint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- Calcolo di un accoppiamento (tolleranze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- Disegno su carta della sezione di un solido assial-simmetric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- Disegno al CAD (AutoCAD) di un pezzo meccanic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e tre prove possono essere svolte e superate separatamente e sono conservative per un an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lla prova al CAD è necessario presentare tutte le esercitazioni grafiche (sia su supporto cartaceo che informatico) assegnate al corso e corret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ttangolo 1"/>
          <p:cNvSpPr/>
          <p:nvPr/>
        </p:nvSpPr>
        <p:spPr>
          <a:xfrm>
            <a:off x="0" y="1484280"/>
            <a:ext cx="8964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tre prove possono essere svolte e superate separatam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prove sono conservative per un an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la prova CAD è necessario presentare tutte le esercitazioni grafiche (sia su supporto cartaceo che informatico) assegnate al corso e corret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prove si svolgono nell’aula Infograf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l’atto della prova saranno comunicate le date per gli oral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risultati delle prove scritte potranno essere comunicate anche tramite “STUDENTINGEGNERIA” o su questo s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900000" y="11592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Informazioni sullo svolgimento delle prove fin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900000" y="11592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Informazioni sullo svolgimento delle prove fin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ttangolo 3"/>
          <p:cNvSpPr/>
          <p:nvPr/>
        </p:nvSpPr>
        <p:spPr>
          <a:xfrm>
            <a:off x="179280" y="1700280"/>
            <a:ext cx="882036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Prova ora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Successiva allo scritto. Riguarda gli argomenti svolti durante il corso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Alla prova è necessario presentare  e consegnare tutte le esercitazioni grafiche (sia su supporto cartaceo che informatico) assegnate al corso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Le prove si svolgono nell’aula Infografica o nei laboratori T1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ttangolo 1"/>
          <p:cNvSpPr/>
          <p:nvPr/>
        </p:nvSpPr>
        <p:spPr>
          <a:xfrm>
            <a:off x="34920" y="0"/>
            <a:ext cx="8713800" cy="67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not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prenotazione telematica va effettuate sempre per la prova scritta, anche se questa è stata superata e ci si presenta solo per l’orale. Pertanto è necessaria rinnovarla quando si intende sostenere l’orale in sedute successive. Per la prova orale di solito vengono comunicate una serie di date consecutive nelle quali è possibile sostenere l’esame. Il candidato comunicherà via mail la sua scelta nell’ambito delle disponibilità offerte, riportando inoltre date e risultati delle prove scritte effettu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nde evitare inutili perdite di tempo a tutti si ricorda ch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non diversamente comunicato, le prove orali si svolgono dalle ore 09.30 in po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non diversamente comunicato, le prove orali si svolgono presso il laboratorio T10 o aula Infografica. Pertanto non inviate mail con richieste di informazioni su orari ed aule di svolgimento della prova orale: saranno cestin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ttangolo 1"/>
          <p:cNvSpPr/>
          <p:nvPr/>
        </p:nvSpPr>
        <p:spPr>
          <a:xfrm>
            <a:off x="468360" y="549360"/>
            <a:ext cx="8280360" cy="53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Altri docenti e collaboratori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Prof. Nicola Cappetti (ncappetti@unisa.it , tel. 089964094, stanza 24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Prof. Alessandro Naddeo (anaddeo@unisa.it , tel 089964061, stanza Infografica 3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ng. Francesco Villecco (fvillecco@unisa.it , tel 08996 4324, stanza 240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324000" y="1052640"/>
            <a:ext cx="78483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segno Artistic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segno Geometrico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cie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segno Tecnico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Tecnolo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graffito_carro"/>
          <p:cNvPicPr/>
          <p:nvPr/>
        </p:nvPicPr>
        <p:blipFill>
          <a:blip r:embed="rId1"/>
          <a:stretch/>
        </p:blipFill>
        <p:spPr>
          <a:xfrm>
            <a:off x="3780000" y="1125360"/>
            <a:ext cx="5040000" cy="39038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250920" y="333360"/>
            <a:ext cx="331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elle epoche antiche la classificazione non era precisa: basta controllare questa rappresentazione murale ( Val Camonica VII sec. A.C. ) per vedere un disegno al tempo stesso artistico, geometrico ed anche tec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0" y="2378160"/>
            <a:ext cx="914400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romani e gli egizi trasferivano l’idea da realizzare su pergamena senza ben precise regole di rappresentazione che non fossero quelle visive o schematich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oi sviluppavano plastici in scala per ottenere un prototipo in miniatura dell’oggetto fi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problemi di realizzazione delle opere erano ben superiori ai problemi di progettazi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PontduGard1"/>
          <p:cNvPicPr/>
          <p:nvPr/>
        </p:nvPicPr>
        <p:blipFill>
          <a:blip r:embed="rId1"/>
          <a:stretch/>
        </p:blipFill>
        <p:spPr>
          <a:xfrm>
            <a:off x="5364000" y="0"/>
            <a:ext cx="3348360" cy="2266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giza"/>
          <p:cNvPicPr/>
          <p:nvPr/>
        </p:nvPicPr>
        <p:blipFill>
          <a:blip r:embed="rId2"/>
          <a:stretch/>
        </p:blipFill>
        <p:spPr>
          <a:xfrm>
            <a:off x="468360" y="0"/>
            <a:ext cx="341928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fly3"/>
          <p:cNvPicPr/>
          <p:nvPr/>
        </p:nvPicPr>
        <p:blipFill>
          <a:blip r:embed="rId1"/>
          <a:stretch/>
        </p:blipFill>
        <p:spPr>
          <a:xfrm>
            <a:off x="3924360" y="189000"/>
            <a:ext cx="4932360" cy="3579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leonardo8"/>
          <p:cNvPicPr/>
          <p:nvPr/>
        </p:nvPicPr>
        <p:blipFill>
          <a:blip r:embed="rId2"/>
          <a:stretch/>
        </p:blipFill>
        <p:spPr>
          <a:xfrm>
            <a:off x="324000" y="260280"/>
            <a:ext cx="3174840" cy="43941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4067280" y="4581360"/>
            <a:ext cx="43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segni originali di Leonardo da Vinc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robilant22c"/>
          <p:cNvPicPr/>
          <p:nvPr/>
        </p:nvPicPr>
        <p:blipFill>
          <a:blip r:embed="rId1"/>
          <a:stretch/>
        </p:blipFill>
        <p:spPr>
          <a:xfrm>
            <a:off x="4643280" y="260280"/>
            <a:ext cx="4205520" cy="63086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468360" y="765000"/>
            <a:ext cx="33829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imi esempi di disegni tecnici con viste e mi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Nicolis de Robilant XVIII secol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nformazioni sul Cor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copi e finalità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apacità di acquisire un nuovo linguaggio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nternazion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apacità di saper leggere e rappresentare, anche con sistemi automatizzati, semplici elementi meccan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noscenza della normativa UNI sul Disegno Tecni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noscenza delle informazioni di base necessarie alla progett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noscenza del principio di funzionamento di elementi meccanici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755640" y="33336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etodi di rappresen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24000" y="2349360"/>
            <a:ext cx="8351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iezioni ortogonali (Metodo di Mon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ssonometria (ortogonale ed obliqu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iezione centrale o prospet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24000" y="404640"/>
            <a:ext cx="8569080" cy="62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e proiezioni ortogonali rappresentano uno dei tanti metodi propri della geometria descrittiva per rappresentare oggetti, di forma qualunque, mediante un disegno. La geometria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Euclide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comprende l'insieme delle teorie matematiche alla base delle relazioni tra gli enti fondamentali della geometria: punto, retta e pi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geometria descrittiva tratta invece le relazioni fondamentali che legano le proiezioni degli enti fondamentali della geometria Euclidea: proiezioni di punti, di rette, di piani ecc ...., dello spazio che si vuole rappresentare sul foglio da disegno; relazioni fondamentali sono l'appartenenza, il parallelismo, la perpendicolarità ecc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900000" y="620640"/>
            <a:ext cx="741708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geometria descrittiva ha per scopo proprio lo studio dei diversi metodi con i quali si possono rappresentare, mediante un disegno, oggetti a tre dimensioni su un unico piano, quello del fogl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 metodi di rappresentazione se ne possono immaginare infiniti, ma il metodo dovuto a Gaspard Monge, o delle proiezioni ortogonali, è quello che il disegno tecnico ha fatto prop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14"/>
          <p:cNvPicPr/>
          <p:nvPr/>
        </p:nvPicPr>
        <p:blipFill>
          <a:blip r:embed="rId1"/>
          <a:stretch/>
        </p:blipFill>
        <p:spPr>
          <a:xfrm>
            <a:off x="395280" y="549360"/>
            <a:ext cx="48070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6"/>
          <p:cNvSpPr/>
          <p:nvPr/>
        </p:nvSpPr>
        <p:spPr>
          <a:xfrm>
            <a:off x="1116000" y="5516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etodo Europ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112"/>
          <p:cNvPicPr/>
          <p:nvPr/>
        </p:nvPicPr>
        <p:blipFill>
          <a:blip r:embed="rId1"/>
          <a:stretch/>
        </p:blipFill>
        <p:spPr>
          <a:xfrm>
            <a:off x="5796000" y="765000"/>
            <a:ext cx="1116000" cy="422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1"/>
          <p:cNvSpPr/>
          <p:nvPr/>
        </p:nvSpPr>
        <p:spPr>
          <a:xfrm>
            <a:off x="5651640" y="18900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etodo Americ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4" descr="a4"/>
          <p:cNvPicPr/>
          <p:nvPr/>
        </p:nvPicPr>
        <p:blipFill>
          <a:blip r:embed="rId2"/>
          <a:stretch/>
        </p:blipFill>
        <p:spPr>
          <a:xfrm>
            <a:off x="2195640" y="6237360"/>
            <a:ext cx="1296720" cy="449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americano"/>
          <p:cNvPicPr/>
          <p:nvPr/>
        </p:nvPicPr>
        <p:blipFill>
          <a:blip r:embed="rId3"/>
          <a:stretch/>
        </p:blipFill>
        <p:spPr>
          <a:xfrm>
            <a:off x="0" y="0"/>
            <a:ext cx="5495760" cy="3267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europeo"/>
          <p:cNvPicPr/>
          <p:nvPr/>
        </p:nvPicPr>
        <p:blipFill>
          <a:blip r:embed="rId4"/>
          <a:stretch/>
        </p:blipFill>
        <p:spPr>
          <a:xfrm>
            <a:off x="3648240" y="3591000"/>
            <a:ext cx="54957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fig08"/>
          <p:cNvPicPr/>
          <p:nvPr/>
        </p:nvPicPr>
        <p:blipFill>
          <a:blip r:embed="rId1"/>
          <a:stretch/>
        </p:blipFill>
        <p:spPr>
          <a:xfrm>
            <a:off x="0" y="0"/>
            <a:ext cx="3276720" cy="2763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fig09"/>
          <p:cNvPicPr/>
          <p:nvPr/>
        </p:nvPicPr>
        <p:blipFill>
          <a:blip r:embed="rId2"/>
          <a:stretch/>
        </p:blipFill>
        <p:spPr>
          <a:xfrm>
            <a:off x="4211640" y="1413000"/>
            <a:ext cx="2952720" cy="2868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fig10"/>
          <p:cNvPicPr/>
          <p:nvPr/>
        </p:nvPicPr>
        <p:blipFill>
          <a:blip r:embed="rId3"/>
          <a:stretch/>
        </p:blipFill>
        <p:spPr>
          <a:xfrm>
            <a:off x="0" y="4206960"/>
            <a:ext cx="3276720" cy="26510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3995640" y="54936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iezioni ortogon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708360" y="4869000"/>
            <a:ext cx="49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disposizione nello spazio dell’oggetto è tale da garantire la massima conservazione delle dimensioni lineari e superfici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111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0" y="549360"/>
            <a:ext cx="88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ssonomet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- Ortogona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- Obliq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0" y="2133720"/>
            <a:ext cx="450072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raggi paralleli proiettanti incidono sul piano di rappresentazione ortogon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 conseguenza la disposizione nello spazio dell’oggetto è realizzata in modo che nessuna degli assi della terna di riferimento dell’oggetto sia complanare al piano di rappresentazione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4859280" y="2060640"/>
            <a:ext cx="3600360" cy="42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raggi proiettanti incidono sul piano di rappresentazione con angolo qualsiasi ma diverso da 0° o da 90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o dei piani generato dalla terna di riferimento dell’oggetto è parallela (o sufficientemente parallela) al piano di rappresentazion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333360" y="260280"/>
                <a:ext cx="344664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O</m:t>
                        </m:r>
                        <m:r>
                          <m:t xml:space="preserve">'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Asen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O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α</m:t>
                        </m:r>
                      </m:e>
                      <m:e>
                        <m:r>
                          <m:t xml:space="preserve">O</m:t>
                        </m:r>
                        <m:r>
                          <m:t xml:space="preserve">'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Bsen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O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β</m:t>
                        </m:r>
                      </m:e>
                      <m:e>
                        <m:r>
                          <m:t xml:space="preserve">O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Csen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O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γ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7" name="Text Box 11"/>
          <p:cNvSpPr/>
          <p:nvPr/>
        </p:nvSpPr>
        <p:spPr>
          <a:xfrm>
            <a:off x="468360" y="1700280"/>
            <a:ext cx="26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vv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12"/>
              <p:cNvSpPr txBox="1"/>
              <p:nvPr/>
            </p:nvSpPr>
            <p:spPr>
              <a:xfrm>
                <a:off x="324000" y="2205000"/>
                <a:ext cx="55432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'</m:t>
                    </m:r>
                    <m:r>
                      <m:t xml:space="preserve">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O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OB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OC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9" name="Picture 8" descr="a6"/>
          <p:cNvPicPr/>
          <p:nvPr/>
        </p:nvPicPr>
        <p:blipFill>
          <a:blip r:embed="rId1"/>
          <a:stretch/>
        </p:blipFill>
        <p:spPr>
          <a:xfrm>
            <a:off x="0" y="3249720"/>
            <a:ext cx="91440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5"/>
          <p:cNvSpPr/>
          <p:nvPr/>
        </p:nvSpPr>
        <p:spPr>
          <a:xfrm>
            <a:off x="395280" y="40464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imponiamo che (come è ver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6"/>
              <p:cNvSpPr txBox="1"/>
              <p:nvPr/>
            </p:nvSpPr>
            <p:spPr>
              <a:xfrm>
                <a:off x="5148360" y="333360"/>
                <a:ext cx="39956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β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γ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Text Box 7"/>
          <p:cNvSpPr/>
          <p:nvPr/>
        </p:nvSpPr>
        <p:spPr>
          <a:xfrm>
            <a:off x="324000" y="1052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 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8"/>
              <p:cNvSpPr txBox="1"/>
              <p:nvPr/>
            </p:nvSpPr>
            <p:spPr>
              <a:xfrm>
                <a:off x="1403280" y="1052640"/>
                <a:ext cx="242100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'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'</m:t>
                    </m:r>
                    <m:r>
                      <m:t xml:space="preserve">+</m:t>
                    </m:r>
                    <m:r>
                      <m:t xml:space="preserve">γ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4" name="Picture 8" descr="a6"/>
          <p:cNvPicPr/>
          <p:nvPr/>
        </p:nvPicPr>
        <p:blipFill>
          <a:blip r:embed="rId1"/>
          <a:stretch/>
        </p:blipFill>
        <p:spPr>
          <a:xfrm>
            <a:off x="0" y="3249720"/>
            <a:ext cx="91440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noscenze di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i ritengono fondamentali per il buon svolgimento del cors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Fondamenti della geometria (euclidea, analitica, proiettiva, descrittiv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Fondamenti del disegno tecnico della scuola media superi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noscenze acquisite nei corsi di Matematica e Informa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5" name="Object 5"/>
              <p:cNvSpPr txBox="1"/>
              <p:nvPr/>
            </p:nvSpPr>
            <p:spPr>
              <a:xfrm>
                <a:off x="324000" y="404640"/>
                <a:ext cx="4025880" cy="221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35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164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Text Box 6"/>
          <p:cNvSpPr/>
          <p:nvPr/>
        </p:nvSpPr>
        <p:spPr>
          <a:xfrm>
            <a:off x="4788000" y="1125360"/>
            <a:ext cx="37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ella assonometria isometrica con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a6"/>
          <p:cNvPicPr/>
          <p:nvPr/>
        </p:nvPicPr>
        <p:blipFill>
          <a:blip r:embed="rId1"/>
          <a:stretch/>
        </p:blipFill>
        <p:spPr>
          <a:xfrm>
            <a:off x="0" y="3249720"/>
            <a:ext cx="91440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3203640" y="260280"/>
            <a:ext cx="5688000" cy="62103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324000" y="765000"/>
            <a:ext cx="26636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ssonometria ortogonale isomet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teori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UNI 48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916360" y="260280"/>
            <a:ext cx="5924520" cy="63086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324000" y="765000"/>
            <a:ext cx="26636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ssonometria ortogonale isomet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prati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UNI 48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3348000" y="476280"/>
            <a:ext cx="5560920" cy="59054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250920" y="476280"/>
            <a:ext cx="280836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ssonometria ortogonale dimet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non prevista dalla nor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6"/>
              <p:cNvSpPr txBox="1"/>
              <p:nvPr/>
            </p:nvSpPr>
            <p:spPr>
              <a:xfrm>
                <a:off x="684360" y="1197000"/>
                <a:ext cx="212400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  <m:r>
                          <m:t xml:space="preserve">'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Text Box 8"/>
          <p:cNvSpPr/>
          <p:nvPr/>
        </p:nvSpPr>
        <p:spPr>
          <a:xfrm>
            <a:off x="3348000" y="1268280"/>
            <a:ext cx="47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K= fattore di trasformazione (variabile tra 0 e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0" y="2708280"/>
            <a:ext cx="24112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norma prevede un assonometria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K=0,5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=26° circa) 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’=4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Oppure per K=1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=1) 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’=4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ASSOBLIQUA"/>
          <p:cNvPicPr/>
          <p:nvPr/>
        </p:nvPicPr>
        <p:blipFill>
          <a:blip r:embed="rId1"/>
          <a:stretch/>
        </p:blipFill>
        <p:spPr>
          <a:xfrm>
            <a:off x="2519280" y="2919240"/>
            <a:ext cx="6624720" cy="39387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9"/>
          <p:cNvSpPr/>
          <p:nvPr/>
        </p:nvSpPr>
        <p:spPr>
          <a:xfrm>
            <a:off x="1187280" y="260280"/>
            <a:ext cx="60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SSONOMETRIA OBLIQ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4788000" y="404640"/>
            <a:ext cx="3906720" cy="58327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611280" y="549360"/>
            <a:ext cx="3240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ssonometria obliqua     cavaliera isomet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UNI 48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4788000" y="260280"/>
            <a:ext cx="4038480" cy="61930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611280" y="549360"/>
            <a:ext cx="3240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ssonometria obliqua     cavaliera   dimet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UNI 48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4788000" y="333360"/>
            <a:ext cx="4022640" cy="6093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755640" y="692280"/>
            <a:ext cx="32400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ssonometria obliqua     cavaliera planometrica (dimetri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UNI 48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684360" y="765000"/>
            <a:ext cx="784836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ltro mater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quadrette 45-45-90 e 30-60-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iga a 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omma, temperamine e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mpasso, goniometro, calcolatrice e …. calib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Strumenti del Diseg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lassificazione mat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en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6B 5B 4B  3B  2B   B    HB    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00   0   1   1½   2    2¼   2½   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ur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H   2H  3H  4H  5H  6H  7H  8H  9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3½  4   4½   5    5½   6     7     8     9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nformazioni sui Docen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SEGNO - CdS Ingegneria Meccanica Trien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° anno – II° semestre – A.A. 2012-201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SEGNO MECCANICO - CdS Ingegneria Chimica Trien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° anno – II° semestre – A.A. 2012-201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ocente: Arcangelo Pellegr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IN - Dipartimento di Ingegneria Industri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DIMEC - Area Didattica di Ingegneria Mecca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DIC - Area Didattica di Ingegneria Chi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tudio: 237 - 2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boratori: T10 - Infogra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l: 08996 4308 – 08996 43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-mail: apellegrino@unisa.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Fogli: forma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0   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mm 841 x 1189 = 1 m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1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mm 594 x 84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2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mm 420 x 59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3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mm 297 x 4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4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mm 210 x 2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nformazioni sui Docen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rario ricevimento (allievi dei corsi, tutorato studenti e dottorandi, tirocinanti, tesisti) sino a fine corsi II semes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unedì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2.30-13.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rtedì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2.30-13.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ercoledì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2.30-13.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 giugno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rtedì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9.30 – 11,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iovedì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9,30 – 11,30   solo su appun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teriale didattico: 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http://elearning.dimec.unisa.it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nformazioni su Comunicazion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2133360"/>
            <a:ext cx="871380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Si prega di limitare l’uso della posta elettronica e del telefono. Assolutamente non è consentito richiedere, tramite questi mezzi di comunicazione, informazioni c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sultati delle prove di esame e date degli or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chieste di svolgimento di prove scritte ed orali in periodi non consent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comunicazioni in questo caso saranno cestin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nformazione sui te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esti consigliat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onnarumma A.,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Disegno di Macchi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Mass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hirone E.,Tornincasa S. ,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Disegno Tec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ndustriale,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ol. 1 e 2, Il Capit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siani et alii,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Disegno Tecnico Industrial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sorzio Nett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nuale delle Norme del Disegno, vol. 1-4, Tecniche Nuo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ppunti dalle lezioni (http://elearning.dimec.unisa.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04920" y="2286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900000" y="54936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Informazioni sullo svolgimento delle prove fin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84360" y="2708280"/>
            <a:ext cx="7704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ve grafiche: su particolari argomenti del corso (tolleranze, costruzioni geometriche, C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va orale: sugli argomenti svolti a lezi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900000" y="54936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Informazioni sullo svolgimento delle prove fin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68360" y="2133720"/>
            <a:ext cx="770400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lle prove è sempre obbligatorio presentarsi con libretto universitario e con documento di riconoscimento con fotografia. Non sono richieste propedeuticità. Ma sono comunque richieste le conoscenze di base in matematica, geometria, fisica e chimica necessarie alla comprensione degli argomenti del cor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6T16:32:44Z</dcterms:created>
  <dc:creator>Arcangelo Pellegrino</dc:creator>
  <dc:description/>
  <dc:language>en-US</dc:language>
  <cp:lastModifiedBy>240</cp:lastModifiedBy>
  <dcterms:modified xsi:type="dcterms:W3CDTF">2013-03-04T17:04:23Z</dcterms:modified>
  <cp:revision>38</cp:revision>
  <dc:subject/>
  <dc:title>Corso di Disegno Meccanic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Google.Documents.DocumentId">
    <vt:lpwstr>16FiBz5UGXcLuuLvyQKT-qfHRRrnsBR5emocSZFJsI-w</vt:lpwstr>
  </property>
  <property fmtid="{D5CDD505-2E9C-101B-9397-08002B2CF9AE}" pid="3" name="Google.Documents.MergeIncapabilityFlags">
    <vt:r8>0</vt:r8>
  </property>
  <property fmtid="{D5CDD505-2E9C-101B-9397-08002B2CF9AE}" pid="4" name="Google.Documents.PluginVersion">
    <vt:lpwstr>2.0.2662.553</vt:lpwstr>
  </property>
  <property fmtid="{D5CDD505-2E9C-101B-9397-08002B2CF9AE}" pid="5" name="Google.Documents.PreviousRevisionId">
    <vt:lpwstr>11921468180033876272</vt:lpwstr>
  </property>
  <property fmtid="{D5CDD505-2E9C-101B-9397-08002B2CF9AE}" pid="6" name="Google.Documents.RevisionId">
    <vt:lpwstr>02575419487255262149</vt:lpwstr>
  </property>
  <property fmtid="{D5CDD505-2E9C-101B-9397-08002B2CF9AE}" pid="7" name="Google.Documents.Tracking">
    <vt:lpwstr>true</vt:lpwstr>
  </property>
</Properties>
</file>